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C829-7D3B-449C-A6C6-9E03AA6DC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E4FF-BAFF-4875-974A-1369E574E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4C2B9E-CFB0-4955-A1F8-58CF143F2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31E6BD-5326-4712-AD4B-14E602CB9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7A6988-F976-40A2-BA51-F40E04A5D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DDE5D1-40C2-4C84-A93E-9389603C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33A608-8ED8-4005-B91A-C2DA50E7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BFF3F4-0303-4CA7-9A95-F2604689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39579A-9ACE-4749-9E99-C96DCFB76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78C942-D884-45B4-B19D-EC9DC1B2B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975BAE-C127-4355-AB60-E07DBFC41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62BE2FA-C1A7-4C66-B02A-9ED2001B3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0334-6FD9-4C3D-80A5-E56C21A57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DD841F9-676C-4CFA-8094-40EE47D6A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9375334-F425-444B-A9DF-8591F436B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23C630C-20F6-4E50-AA3B-A50DF2152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CC1607E-D04B-41D6-BD42-EC34E4396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DA6ED31-2476-4447-B0F5-F4D1604F8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05806E8-C413-49B1-A02C-E7491140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34F062E-F5E0-4AF9-B30E-815F6DF0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D6A1A77-1A22-4403-AA40-81D9B547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5D0261D-CD2B-4661-A854-08A5832ED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50FA857-6FE6-4127-96B4-9E92C26A9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B830-2D74-4182-968F-38CD978B6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FAE1905-8842-44F6-A5B7-5551210C1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2977CF3-610A-442F-9D63-7BB84E8BD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6DA8F82-E09F-4E20-A9A4-29C39AFBE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DBA88CD-0E85-41BC-92B4-6280DF199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66ADDD7-ADD1-40ED-9325-3E38E04BB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181DF99-46BE-4C4E-85C3-CD4CF9847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B06CD14-4CA4-452E-90ED-413046DCF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CD4420D-611A-4BE4-A138-9A7AC9EC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217F1BF-F736-4885-9411-CE50EF5C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3A5BB76-A0D9-4739-8671-C17B76C1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EA749-BB4D-47A2-9ACA-A8C609FCA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46D27AE-7C23-4C71-B122-A4E7F1652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B31824D-F9BF-4F6B-B1E4-9230E9231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95ED589-F397-4EF2-B3E7-724CB1475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75DD6C6-B4B4-42E6-8BDB-E0B0622BE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B72D3C0-4120-4E5B-BE7F-25B97643F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C56D9B9-4F7C-4FBD-B200-C977E032B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65A4E6D-24FA-4F19-A144-6C9E49C89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80E66A0-7280-4CD9-9F12-83A39E6C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0EF0867-4D87-485C-8E0E-235DCE174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9B90054-DECD-4446-A0D9-F7CC9AB1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1A9CC-BFC8-459A-9045-85DF36D5A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42796C4-0DCA-42D8-8822-9E63CA08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100FC87-9708-4F7A-BDF8-C68878A3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E008045-6A38-47BE-8F2C-5FC11A70C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79E5723-36D5-4BA1-B2AC-536B8C775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D250421-9984-4832-B214-BDB768160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CFBD146-8F3D-45EF-B2C9-880E09E01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2683441-77B5-404B-BF7B-8963FF6A7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A0F3DEA-C300-452B-97C6-9EE6FB9B1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B4710D3-4975-4D10-B4DE-3AE8CCAA0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FE0258B-6B0D-44FB-B173-D815B6D64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19A39-1C9B-4911-806C-DEAA09A1C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46B5B44-DDFF-41C2-8070-C4A334AB7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BDA1134-A0A7-4182-AF76-3E6F8D76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E9DEB77-65B9-4506-B448-6CD656A8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F453862-3F76-4302-8CD4-99F6C63F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82E006E-7F1D-4FC0-B8EF-672F2859F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1EB2978-5FC3-48B4-AD8B-12ABA2B8B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5FE5C27-DD91-4B2F-BBEE-22A9D53F1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4B461AE-B5CF-4FA7-AB62-6DFFC8C2E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B17FE33-D09F-40B7-A940-853554A59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80FA2CF-97C3-4981-AAE7-93AF83C89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B3AA2-0D7D-4F4B-9ED8-1F382607A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C27749A-6AB0-475A-8905-58C62E25C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F46F67A-7A49-44C9-A865-25C95E9AB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E3326C7-1ADC-4559-9989-B198205AD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83B3E5B-D2B2-4A08-B5EE-BFCAC289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E58CA78-F002-4F18-B179-B0D8853B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3ADBBF5-CA83-49E9-9C14-3EAB01EC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00BC162-7718-491C-9136-195AD5968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07A585C-D4E2-44E0-865F-CB5EDA8E3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41CCD4E-FFA1-49EA-80DA-A6B936F8F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53D7137-5020-4000-B31A-88CC54B1E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D2F1B-0913-49F0-BD08-13E43BF8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3A898D9-BB12-40D8-B0EF-A4AFB913B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F84D6EF-56C8-45E5-9D7A-28BF8C69A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A54B1F2-EED2-4FC6-83A5-AD4A9DAA1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6CDCA9B-E98F-40C8-905B-8CBAD41A4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EC4F891-C66D-483A-B1B1-374069AE2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B80A45C-9133-4AFD-8728-8B49874A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379249D-0498-4E67-8B04-200B3515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163F485-4571-472A-A445-636928F0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77A4BE2-8FDD-4956-958B-1BB1612B0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FF3FB12-BCC4-43F1-AB21-5CEA876CA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0F6CD-7E22-43CA-9434-CFF3551F8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1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2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4708C81-D443-41B7-AECA-86EB36598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79215EA-9E5D-4F56-B1AD-9E5C3E5C1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07EB81C-E2AE-4A10-B29D-9C85697AD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5844ADB-FF7D-493D-9234-7C124780C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F73D59A-EB6A-4939-A706-88103EA1E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967387F-D6B6-46D7-ADD4-1CBB86F54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256DEB1-D187-40FD-9D77-1A6A8DF43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F7F3073-34AD-4D91-B09F-93136186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6367F07-76C9-4A63-9BA8-D1BA8D23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141C6E1-9227-4E76-AF82-D94D962F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FF026-67B7-4AF8-B453-249685B0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FCD666E-F66C-4D31-AFAF-7F38D1B39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B56BE69-0FA5-4F27-8A36-65C840C15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42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43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4A86F96-7396-4054-A4DA-3C3BA9B8E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05E5-A609-42D7-BF67-CDB08D1F2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E010E-9296-45B6-9E21-3134B18A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27975-C1C4-4346-95B0-A61F592D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B4ED9-35B7-4353-B458-A22E0EB94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65F43-00CA-4BBC-BB54-0770EA44D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3AD92-C7FE-4755-96C5-F941BDC89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65B18-65D1-4223-9D1C-32BE543F0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4E2A1-1F54-4475-9FE5-25A2B3750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99496-927C-4549-9861-88F3134BE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A192E-FA32-4368-BDBC-25EA7B1E2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B6E29-591B-4146-81B4-E7DA4B137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F339-0147-4ADB-BF64-33F8E60FF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C3DE6-5EB9-4647-B10D-B6C0AA10F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E2C20-57F4-4764-9223-D075C8C1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0BAFC-C520-4B7F-B0DF-DB1CE161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71DB5-97F5-4BDF-A833-A9179C07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C986A-5FB3-469A-A0CD-B17132309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B281F-903D-4E2D-866A-C5906210A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58EDA-EE0D-40E0-BE33-7DBAC123F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C7DA-31F4-43A3-BFD5-AC59B3673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530CBF-8968-4BA6-8A23-74C364BB0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1A2F-229E-4204-AA0C-86F969DF2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F82FF6-E593-4256-AE05-879347D82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5CB8FF-BC17-40B4-AAB3-59836ABB6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0EDBAB-8959-496A-8486-0D7AB3390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1E9F38-4C83-41DF-9EA0-6D2DDA783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FDD68B-FA33-46DB-9B13-BA5596BF7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ED4F30-2BEB-4C4B-8808-51930AF5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73038B-7A73-4F34-9AF8-9413530C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FAE48D-8BC5-4B51-BAF5-1D7F0EFE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8C3A7B-DE79-46FB-8D39-578660F5B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15DAAB-01DA-4E66-8145-5EE8A55AC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FF80-BCDF-43BB-B30D-35BF7C2F9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4737A1-4059-40AE-BB17-C7EE35098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F6389B-2E76-47C9-AAC5-05F2B6FC2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DEFCBF-D674-476F-9882-C3F5955E3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9CCDDD-A019-4C04-91AB-E9D6503E8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6D3D7C-99CC-484E-9C80-210698866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97E641-B85C-4909-97C9-8EA9BA751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8F3BE8-02D4-40A4-9F33-AF08800DC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07E682-DD4E-4EEE-BCCE-3A7CEFE3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E6E4B5-55D7-4824-810E-AA17592D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3004B4-BED3-426A-833C-0D12C63C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6692-5332-4B58-8489-46C96AB2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102288-26AE-45CB-AA7E-408BEE1E1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AE7FB4-2AA1-4E68-AC1F-1AF3036FB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61AABA-71CD-4BDB-8761-783A5617C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D35C28-CE8D-470E-89EE-6C7B0D612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522D97-02FC-45DF-A6C8-1B3FEDD3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E906B9-99D5-4289-8577-D1FA4919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A83096-8112-4FF7-BD20-C9B5ECE6F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37764E-3391-4C8D-9C4A-8269E9D1C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FB91D7-CF41-45A1-B964-0809E607C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F2A4CF-1A8A-4743-A901-50401085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75BC-812A-4798-809E-2290CFE4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424AA5-E7C6-4726-9270-4B3A307B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70A96C-9845-4B00-80F7-5BC55BAE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6A0A78-3CA6-4B65-9D5A-699C57BE8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E3065D-5BE3-4738-834B-7E7E6BE41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21BD13-0865-470D-895B-67CC3D856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80CEEC-FD61-4BF6-B8BF-CCAB44897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176E32-8D73-43A0-8296-F568F3C30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670246-D2F6-4EC2-B84A-B90B6DDB8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21A2CD-1BA7-48BB-B760-96D0DF501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637BF8-66F0-4630-AB56-2F976A330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CDA8-FAED-4A00-BEF3-9C7DA2A7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DA4342-A477-4703-8D21-896738684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F91F50-6831-4B41-AAEB-69EEC23C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D3123B-F3C3-4584-AC47-517BF1C1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303632-0DF1-47E1-B673-EC75DE5F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3BD974-9FAA-47A7-8CBC-EDBF3DAE6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DF8622-A815-4C97-BF4F-47F6C2E1E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767C56-CD10-4C9F-83F0-A730E8C48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D744A4-C66A-4788-BDEC-C39402110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9E9E23-FD70-4FA4-8313-BEED8D82E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4798E5-AB7D-4294-809B-D6BAC8FEA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0BA71D-F3FB-4FC3-B787-A8A84524CA2A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DF0427-F49F-406B-80C7-E564C22E7C29}" type="slidenum">
              <a:rPr b="0" lang="en-US" sz="1200" spc="-1" strike="noStrike">
                <a:solidFill>
                  <a:srgbClr val="b0bcc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Group 3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grpSp>
          <p:nvGrpSpPr>
            <p:cNvPr id="415" name="Group 26"/>
            <p:cNvGrpSpPr/>
            <p:nvPr/>
          </p:nvGrpSpPr>
          <p:grpSpPr>
            <a:xfrm>
              <a:off x="182520" y="173160"/>
              <a:ext cx="8778960" cy="6511680"/>
              <a:chOff x="182520" y="173160"/>
              <a:chExt cx="8778960" cy="6511680"/>
            </a:xfrm>
          </p:grpSpPr>
          <p:pic>
            <p:nvPicPr>
              <p:cNvPr id="416" name="Picture 9" descr="PaperPanel-Base.jpg"/>
              <p:cNvPicPr/>
              <p:nvPr/>
            </p:nvPicPr>
            <p:blipFill>
              <a:blip r:embed="rId3"/>
              <a:stretch/>
            </p:blipFill>
            <p:spPr>
              <a:xfrm>
                <a:off x="182520" y="173160"/>
                <a:ext cx="8778960" cy="6511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17" name="Group 10"/>
              <p:cNvGrpSpPr/>
              <p:nvPr/>
            </p:nvGrpSpPr>
            <p:grpSpPr>
              <a:xfrm>
                <a:off x="378000" y="349560"/>
                <a:ext cx="8384760" cy="6146640"/>
                <a:chOff x="378000" y="349560"/>
                <a:chExt cx="8384760" cy="6146640"/>
              </a:xfrm>
            </p:grpSpPr>
            <p:sp>
              <p:nvSpPr>
                <p:cNvPr id="418" name="Rectangle 11"/>
                <p:cNvSpPr/>
                <p:nvPr/>
              </p:nvSpPr>
              <p:spPr>
                <a:xfrm>
                  <a:off x="378000" y="349560"/>
                  <a:ext cx="8384760" cy="6146640"/>
                </a:xfrm>
                <a:prstGeom prst="rect">
                  <a:avLst/>
                </a:prstGeom>
                <a:noFill/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sto MT"/>
                  </a:endParaRPr>
                </a:p>
              </p:txBody>
            </p:sp>
            <p:sp>
              <p:nvSpPr>
                <p:cNvPr id="419" name="Straight Connector 12"/>
                <p:cNvSpPr/>
                <p:nvPr/>
              </p:nvSpPr>
              <p:spPr>
                <a:xfrm>
                  <a:off x="378000" y="6281280"/>
                  <a:ext cx="8384760" cy="1440"/>
                </a:xfrm>
                <a:prstGeom prst="line">
                  <a:avLst/>
                </a:prstGeom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sto MT"/>
                  </a:endParaRPr>
                </a:p>
              </p:txBody>
            </p:sp>
          </p:grpSp>
        </p:grpSp>
        <p:sp>
          <p:nvSpPr>
            <p:cNvPr id="420" name="Rectangle 8"/>
            <p:cNvSpPr/>
            <p:nvPr/>
          </p:nvSpPr>
          <p:spPr>
            <a:xfrm rot="5400000">
              <a:off x="799560" y="3274200"/>
              <a:ext cx="6136920" cy="6372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7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730BAC-CC2E-4B33-A3AA-3719AACEF6E6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8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29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55CFCC-A73D-4B95-AC75-EF3E68EB7BF0}" type="slidenum">
              <a:rPr b="0" lang="en-US" sz="1200" spc="-1" strike="noStrike">
                <a:solidFill>
                  <a:srgbClr val="b0bcc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3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grpSp>
          <p:nvGrpSpPr>
            <p:cNvPr id="463" name="Group 26"/>
            <p:cNvGrpSpPr/>
            <p:nvPr/>
          </p:nvGrpSpPr>
          <p:grpSpPr>
            <a:xfrm>
              <a:off x="182520" y="173160"/>
              <a:ext cx="8778960" cy="6511680"/>
              <a:chOff x="182520" y="173160"/>
              <a:chExt cx="8778960" cy="6511680"/>
            </a:xfrm>
          </p:grpSpPr>
          <p:pic>
            <p:nvPicPr>
              <p:cNvPr id="464" name="Picture 9" descr="PaperPanel-Base.jpg"/>
              <p:cNvPicPr/>
              <p:nvPr/>
            </p:nvPicPr>
            <p:blipFill>
              <a:blip r:embed="rId3"/>
              <a:stretch/>
            </p:blipFill>
            <p:spPr>
              <a:xfrm>
                <a:off x="182520" y="173160"/>
                <a:ext cx="8778960" cy="6511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65" name="Group 10"/>
              <p:cNvGrpSpPr/>
              <p:nvPr/>
            </p:nvGrpSpPr>
            <p:grpSpPr>
              <a:xfrm>
                <a:off x="378000" y="349560"/>
                <a:ext cx="8384760" cy="6146640"/>
                <a:chOff x="378000" y="349560"/>
                <a:chExt cx="8384760" cy="6146640"/>
              </a:xfrm>
            </p:grpSpPr>
            <p:sp>
              <p:nvSpPr>
                <p:cNvPr id="466" name="Rectangle 11"/>
                <p:cNvSpPr/>
                <p:nvPr/>
              </p:nvSpPr>
              <p:spPr>
                <a:xfrm>
                  <a:off x="378000" y="349560"/>
                  <a:ext cx="8384760" cy="6146640"/>
                </a:xfrm>
                <a:prstGeom prst="rect">
                  <a:avLst/>
                </a:prstGeom>
                <a:noFill/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sto MT"/>
                  </a:endParaRPr>
                </a:p>
              </p:txBody>
            </p:sp>
            <p:sp>
              <p:nvSpPr>
                <p:cNvPr id="467" name="Straight Connector 12"/>
                <p:cNvSpPr/>
                <p:nvPr/>
              </p:nvSpPr>
              <p:spPr>
                <a:xfrm>
                  <a:off x="378000" y="6281280"/>
                  <a:ext cx="8384760" cy="1440"/>
                </a:xfrm>
                <a:prstGeom prst="line">
                  <a:avLst/>
                </a:prstGeom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sto MT"/>
                  </a:endParaRPr>
                </a:p>
              </p:txBody>
            </p:sp>
          </p:grpSp>
        </p:grpSp>
        <p:sp>
          <p:nvSpPr>
            <p:cNvPr id="468" name="Rectangle 8"/>
            <p:cNvSpPr/>
            <p:nvPr/>
          </p:nvSpPr>
          <p:spPr>
            <a:xfrm rot="5400000">
              <a:off x="799560" y="3274200"/>
              <a:ext cx="6136920" cy="6372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469" name="Rectangle 13"/>
          <p:cNvSpPr/>
          <p:nvPr/>
        </p:nvSpPr>
        <p:spPr>
          <a:xfrm rot="10800000">
            <a:off x="258840" y="1593000"/>
            <a:ext cx="3574800" cy="651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0" name="Rectangle 14"/>
          <p:cNvSpPr/>
          <p:nvPr/>
        </p:nvSpPr>
        <p:spPr>
          <a:xfrm rot="10800000">
            <a:off x="258840" y="1593000"/>
            <a:ext cx="3574800" cy="651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30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5EDEB0-065E-4E60-85E6-201EF2FF3AD3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31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2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608B0C-DC73-4D4E-BE4C-08155C036BA8}" type="slidenum">
              <a:rPr b="0" lang="en-US" sz="1200" spc="-1" strike="noStrike">
                <a:solidFill>
                  <a:srgbClr val="b0bcc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32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grpSp>
          <p:nvGrpSpPr>
            <p:cNvPr id="513" name="Group 26"/>
            <p:cNvGrpSpPr/>
            <p:nvPr/>
          </p:nvGrpSpPr>
          <p:grpSpPr>
            <a:xfrm>
              <a:off x="182520" y="173160"/>
              <a:ext cx="8778960" cy="6511680"/>
              <a:chOff x="182520" y="173160"/>
              <a:chExt cx="8778960" cy="6511680"/>
            </a:xfrm>
          </p:grpSpPr>
          <p:pic>
            <p:nvPicPr>
              <p:cNvPr id="514" name="Picture 9" descr="PaperPanel-Base.jpg"/>
              <p:cNvPicPr/>
              <p:nvPr/>
            </p:nvPicPr>
            <p:blipFill>
              <a:blip r:embed="rId3"/>
              <a:stretch/>
            </p:blipFill>
            <p:spPr>
              <a:xfrm>
                <a:off x="182520" y="173160"/>
                <a:ext cx="8778960" cy="6511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15" name="Group 10"/>
              <p:cNvGrpSpPr/>
              <p:nvPr/>
            </p:nvGrpSpPr>
            <p:grpSpPr>
              <a:xfrm>
                <a:off x="378000" y="349560"/>
                <a:ext cx="8384760" cy="6146640"/>
                <a:chOff x="378000" y="349560"/>
                <a:chExt cx="8384760" cy="6146640"/>
              </a:xfrm>
            </p:grpSpPr>
            <p:sp>
              <p:nvSpPr>
                <p:cNvPr id="516" name="Rectangle 11"/>
                <p:cNvSpPr/>
                <p:nvPr/>
              </p:nvSpPr>
              <p:spPr>
                <a:xfrm>
                  <a:off x="378000" y="349560"/>
                  <a:ext cx="8384760" cy="6146640"/>
                </a:xfrm>
                <a:prstGeom prst="rect">
                  <a:avLst/>
                </a:prstGeom>
                <a:noFill/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sto MT"/>
                  </a:endParaRPr>
                </a:p>
              </p:txBody>
            </p:sp>
            <p:sp>
              <p:nvSpPr>
                <p:cNvPr id="517" name="Straight Connector 12"/>
                <p:cNvSpPr/>
                <p:nvPr/>
              </p:nvSpPr>
              <p:spPr>
                <a:xfrm>
                  <a:off x="378000" y="6281280"/>
                  <a:ext cx="8384760" cy="1440"/>
                </a:xfrm>
                <a:prstGeom prst="line">
                  <a:avLst/>
                </a:prstGeom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sto MT"/>
                  </a:endParaRPr>
                </a:p>
              </p:txBody>
            </p:sp>
          </p:grpSp>
        </p:grpSp>
        <p:sp>
          <p:nvSpPr>
            <p:cNvPr id="518" name="Rectangle 8"/>
            <p:cNvSpPr/>
            <p:nvPr/>
          </p:nvSpPr>
          <p:spPr>
            <a:xfrm rot="5400000">
              <a:off x="799560" y="3274200"/>
              <a:ext cx="6136920" cy="6372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3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18FAE3-FD97-4F60-9725-51DA3CECCB50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4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5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F53EAF-8924-4780-A464-9C74F6CB2928}" type="slidenum">
              <a:rPr b="0" lang="en-US" sz="1200" spc="-1" strike="noStrike">
                <a:solidFill>
                  <a:srgbClr val="b0bcc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Group 26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561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2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563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564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</p:grpSp>
      </p:grpSp>
      <p:sp>
        <p:nvSpPr>
          <p:cNvPr id="565" name="Rectangle 11"/>
          <p:cNvSpPr/>
          <p:nvPr/>
        </p:nvSpPr>
        <p:spPr>
          <a:xfrm>
            <a:off x="255600" y="4203720"/>
            <a:ext cx="86234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66" name="Rectangle 12"/>
          <p:cNvSpPr/>
          <p:nvPr/>
        </p:nvSpPr>
        <p:spPr>
          <a:xfrm>
            <a:off x="255600" y="4203720"/>
            <a:ext cx="86234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36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314CFC-0BE7-45D4-B063-13499FAE4297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37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38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5E576D-91DB-48CF-8753-1D4164607C3F}" type="slidenum">
              <a:rPr b="0" lang="en-US" sz="1200" spc="-1" strike="noStrike">
                <a:solidFill>
                  <a:srgbClr val="b0bcc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Group 19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609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0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611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612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613" name="Rectangle 11"/>
              <p:cNvSpPr/>
              <p:nvPr/>
            </p:nvSpPr>
            <p:spPr>
              <a:xfrm>
                <a:off x="378000" y="1667880"/>
                <a:ext cx="8384760" cy="6156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</p:grpSp>
      </p:grp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dt" idx="39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448590-9D48-4E60-8853-9D403EFF051A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ftr" idx="40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 type="sldNum" idx="41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B4105D-F997-4D8B-86DC-73D353CC2128}" type="slidenum">
              <a:rPr b="0" lang="en-US" sz="1200" spc="-1" strike="noStrike">
                <a:solidFill>
                  <a:srgbClr val="b0bcc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5" name="Group 19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656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7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658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659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</p:grpSp>
      </p:grpSp>
      <p:sp>
        <p:nvSpPr>
          <p:cNvPr id="660" name="Rectangle 11"/>
          <p:cNvSpPr/>
          <p:nvPr/>
        </p:nvSpPr>
        <p:spPr>
          <a:xfrm rot="5400000">
            <a:off x="4242240" y="3274200"/>
            <a:ext cx="61358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61" name="Rectangle 12"/>
          <p:cNvSpPr/>
          <p:nvPr/>
        </p:nvSpPr>
        <p:spPr>
          <a:xfrm rot="5400000">
            <a:off x="4242240" y="3274200"/>
            <a:ext cx="61358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 type="dt" idx="42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875AC7-0782-453D-BF32-FC7DC2DDF2EA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 type="ftr" idx="43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 type="sldNum" idx="44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A156BB-2847-432C-BF4A-8BC11A457ED0}" type="slidenum">
              <a:rPr b="0" lang="en-US" sz="1200" spc="-1" strike="noStrike">
                <a:solidFill>
                  <a:srgbClr val="b0bcc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 type="dt" idx="45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 type="ftr" idx="46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 type="sldNum" idx="47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1251D1-95BA-41A1-93C2-87D1900A86E4}" type="slidenum">
              <a:rPr b="0" lang="en-US" sz="1200" spc="-1" strike="noStrike">
                <a:solidFill>
                  <a:srgbClr val="b0bcc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7"/>
          <p:cNvGrpSpPr/>
          <p:nvPr/>
        </p:nvGrpSpPr>
        <p:grpSpPr>
          <a:xfrm>
            <a:off x="487440" y="411120"/>
            <a:ext cx="8169120" cy="6035760"/>
            <a:chOff x="487440" y="411120"/>
            <a:chExt cx="8169120" cy="6035760"/>
          </a:xfrm>
        </p:grpSpPr>
        <p:pic>
          <p:nvPicPr>
            <p:cNvPr id="42" name="Picture 7" descr="PaperPanel-Title.jpg"/>
            <p:cNvPicPr/>
            <p:nvPr/>
          </p:nvPicPr>
          <p:blipFill>
            <a:blip r:embed="rId3"/>
            <a:stretch/>
          </p:blipFill>
          <p:spPr>
            <a:xfrm>
              <a:off x="487440" y="411120"/>
              <a:ext cx="8169120" cy="603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Rectangle 8"/>
            <p:cNvSpPr/>
            <p:nvPr/>
          </p:nvSpPr>
          <p:spPr>
            <a:xfrm>
              <a:off x="684360" y="581400"/>
              <a:ext cx="7746480" cy="5682960"/>
            </a:xfrm>
            <a:prstGeom prst="rect">
              <a:avLst/>
            </a:prstGeom>
            <a:noFill/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4" name="Straight Connector 9"/>
            <p:cNvSpPr/>
            <p:nvPr/>
          </p:nvSpPr>
          <p:spPr>
            <a:xfrm>
              <a:off x="684360" y="6042240"/>
              <a:ext cx="7746480" cy="1080"/>
            </a:xfrm>
            <a:prstGeom prst="line">
              <a:avLst/>
            </a:prstGeom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5" name="Rectangle 10"/>
            <p:cNvSpPr/>
            <p:nvPr/>
          </p:nvSpPr>
          <p:spPr>
            <a:xfrm>
              <a:off x="684360" y="563760"/>
              <a:ext cx="7746480" cy="248832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572760" y="612252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41DA75-CB66-4469-86EC-FF44223666B0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5638680" y="6122520"/>
            <a:ext cx="289584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191120" y="612288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AB5B48-EF99-4646-ACB1-8067B1778357}" type="slidenum">
              <a:rPr b="0" lang="en-US" sz="1200" spc="-1" strike="noStrike">
                <a:solidFill>
                  <a:srgbClr val="b0bcc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15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88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9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90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91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92" name="Rectangle 11"/>
              <p:cNvSpPr/>
              <p:nvPr/>
            </p:nvSpPr>
            <p:spPr>
              <a:xfrm>
                <a:off x="378000" y="1667880"/>
                <a:ext cx="8384760" cy="6156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</p:grp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69BFB5-A769-4BF1-8B50-25A7A1C38E21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B781F2-5994-4366-B1EE-DC60D6545B9A}" type="slidenum">
              <a:rPr b="0" lang="en-US" sz="1200" spc="-1" strike="noStrike">
                <a:solidFill>
                  <a:srgbClr val="b0bcc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6" descr="PaperPanel-Title.jpg"/>
          <p:cNvPicPr/>
          <p:nvPr/>
        </p:nvPicPr>
        <p:blipFill>
          <a:blip r:embed="rId3"/>
          <a:stretch/>
        </p:blipFill>
        <p:spPr>
          <a:xfrm>
            <a:off x="360360" y="298440"/>
            <a:ext cx="8418600" cy="625464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11"/>
          <p:cNvGrpSpPr/>
          <p:nvPr/>
        </p:nvGrpSpPr>
        <p:grpSpPr>
          <a:xfrm>
            <a:off x="563400" y="476280"/>
            <a:ext cx="7982280" cy="5888160"/>
            <a:chOff x="563400" y="476280"/>
            <a:chExt cx="7982280" cy="5888160"/>
          </a:xfrm>
        </p:grpSpPr>
        <p:sp>
          <p:nvSpPr>
            <p:cNvPr id="136" name="Rectangle 8"/>
            <p:cNvSpPr/>
            <p:nvPr/>
          </p:nvSpPr>
          <p:spPr>
            <a:xfrm>
              <a:off x="563400" y="476280"/>
              <a:ext cx="7982280" cy="5888160"/>
            </a:xfrm>
            <a:prstGeom prst="rect">
              <a:avLst/>
            </a:prstGeom>
            <a:noFill/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137" name="Straight Connector 9"/>
            <p:cNvSpPr/>
            <p:nvPr/>
          </p:nvSpPr>
          <p:spPr>
            <a:xfrm>
              <a:off x="563400" y="6134040"/>
              <a:ext cx="7982280" cy="1440"/>
            </a:xfrm>
            <a:prstGeom prst="line">
              <a:avLst/>
            </a:prstGeom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138" name="Straight Connector 10"/>
            <p:cNvSpPr/>
            <p:nvPr/>
          </p:nvSpPr>
          <p:spPr>
            <a:xfrm>
              <a:off x="563400" y="3427920"/>
              <a:ext cx="7982280" cy="1440"/>
            </a:xfrm>
            <a:prstGeom prst="line">
              <a:avLst/>
            </a:prstGeom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569520" y="612252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F17BB5-701A-411F-834E-EF1C7E952333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5638680" y="6124680"/>
            <a:ext cx="289584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180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1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182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183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</p:grp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2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7E3E45-52BA-45A6-B715-3367E4A657D1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3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4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20DC46-3104-4523-8848-516A297E4B5B}" type="slidenum">
              <a:rPr b="0" lang="en-US" sz="1200" spc="-1" strike="noStrike">
                <a:solidFill>
                  <a:srgbClr val="b0bcc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1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226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7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228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229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230" name="Rectangle 11"/>
              <p:cNvSpPr/>
              <p:nvPr/>
            </p:nvSpPr>
            <p:spPr>
              <a:xfrm>
                <a:off x="378000" y="1667880"/>
                <a:ext cx="8384760" cy="6156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</p:grpSp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5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85A8D6-6970-428C-A5E5-A92650ACB5AD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6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7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77E25A-1B2D-4082-826F-928A56873781}" type="slidenum">
              <a:rPr b="0" lang="en-US" sz="1200" spc="-1" strike="noStrike">
                <a:solidFill>
                  <a:srgbClr val="b0bcc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Group 16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273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4" name="Group 8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275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276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277" name="Rectangle 11"/>
              <p:cNvSpPr/>
              <p:nvPr/>
            </p:nvSpPr>
            <p:spPr>
              <a:xfrm>
                <a:off x="378000" y="1667880"/>
                <a:ext cx="8384760" cy="6156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</p:grpSp>
      </p:grpSp>
      <p:sp>
        <p:nvSpPr>
          <p:cNvPr id="278" name="Straight Connector 12"/>
          <p:cNvSpPr/>
          <p:nvPr/>
        </p:nvSpPr>
        <p:spPr>
          <a:xfrm>
            <a:off x="4572000" y="1671480"/>
            <a:ext cx="1440" cy="4711680"/>
          </a:xfrm>
          <a:prstGeom prst="line">
            <a:avLst/>
          </a:prstGeom>
          <a:ln w="12600">
            <a:solidFill>
              <a:srgbClr val="bebd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9" name="Straight Connector 13"/>
          <p:cNvSpPr/>
          <p:nvPr/>
        </p:nvSpPr>
        <p:spPr>
          <a:xfrm>
            <a:off x="4572000" y="1671480"/>
            <a:ext cx="1440" cy="4711680"/>
          </a:xfrm>
          <a:prstGeom prst="line">
            <a:avLst/>
          </a:prstGeom>
          <a:ln w="12600">
            <a:solidFill>
              <a:srgbClr val="bebd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8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B76FE8-E72B-45A0-9D30-CF235802D932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19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0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031BB5-0DA2-43BF-9D17-65163949084A}" type="slidenum">
              <a:rPr b="0" lang="en-US" sz="1200" spc="-1" strike="noStrike">
                <a:solidFill>
                  <a:srgbClr val="b0bcc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Group 18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322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3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324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325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326" name="Rectangle 11"/>
              <p:cNvSpPr/>
              <p:nvPr/>
            </p:nvSpPr>
            <p:spPr>
              <a:xfrm>
                <a:off x="378000" y="1667880"/>
                <a:ext cx="8384760" cy="6156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</p:grp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1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EA4018-B13A-4F3B-B3F5-FD4CB72C2940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2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3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330D7B-1F5E-4138-86C6-20F9151338C8}" type="slidenum">
              <a:rPr b="0" lang="en-US" sz="1200" spc="-1" strike="noStrike">
                <a:solidFill>
                  <a:srgbClr val="b0bcc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17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369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0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371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372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</p:grp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4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9EEB09-BD14-4391-B54C-4F74BB43D95C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5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6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9EAB5F-0824-41E2-84BC-CF8F1E67E94F}" type="slidenum">
              <a:rPr b="0" lang="en-US" sz="1200" spc="-1" strike="noStrike">
                <a:solidFill>
                  <a:srgbClr val="b0bcc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8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2573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04040"/>
                </a:solidFill>
                <a:latin typeface="Calisto MT"/>
              </a:rPr>
              <a:t>Writing Complex Sentences</a:t>
            </a:r>
            <a:endParaRPr b="0" lang="en-US" sz="49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Text Box 25"/>
          <p:cNvSpPr/>
          <p:nvPr/>
        </p:nvSpPr>
        <p:spPr>
          <a:xfrm>
            <a:off x="777960" y="5060880"/>
            <a:ext cx="720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e dependent clause needs the rest of the sentence for support.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62" name="Text Box 26"/>
          <p:cNvSpPr/>
          <p:nvPr/>
        </p:nvSpPr>
        <p:spPr>
          <a:xfrm>
            <a:off x="1144440" y="31320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Because you love me, I love you.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763" name="Group 32"/>
          <p:cNvGrpSpPr/>
          <p:nvPr/>
        </p:nvGrpSpPr>
        <p:grpSpPr>
          <a:xfrm>
            <a:off x="1408320" y="2057400"/>
            <a:ext cx="3436200" cy="1076040"/>
            <a:chOff x="1408320" y="2057400"/>
            <a:chExt cx="3436200" cy="1076040"/>
          </a:xfrm>
        </p:grpSpPr>
        <p:sp>
          <p:nvSpPr>
            <p:cNvPr id="764" name="AutoShape 27"/>
            <p:cNvSpPr/>
            <p:nvPr/>
          </p:nvSpPr>
          <p:spPr>
            <a:xfrm rot="16218600">
              <a:off x="2859480" y="1140480"/>
              <a:ext cx="533520" cy="3433320"/>
            </a:xfrm>
            <a:custGeom>
              <a:avLst/>
              <a:gdLst>
                <a:gd name="textAreaLeft" fmla="*/ 0 w 533520"/>
                <a:gd name="textAreaRight" fmla="*/ 192600 w 533520"/>
                <a:gd name="textAreaTop" fmla="*/ 89280 h 3433320"/>
                <a:gd name="textAreaBottom" fmla="*/ 3344040 h 343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765" name="Text Box 28"/>
            <p:cNvSpPr/>
            <p:nvPr/>
          </p:nvSpPr>
          <p:spPr>
            <a:xfrm>
              <a:off x="1497240" y="2057400"/>
              <a:ext cx="2993400" cy="459720"/>
            </a:xfrm>
            <a:prstGeom prst="rect">
              <a:avLst/>
            </a:prstGeom>
            <a:solidFill>
              <a:srgbClr val="8f99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sto MT"/>
                </a:rPr>
                <a:t>Dependent clause</a:t>
              </a:r>
              <a:endParaRPr b="0" lang="en-US" sz="24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grpSp>
        <p:nvGrpSpPr>
          <p:cNvPr id="766" name="Group 33"/>
          <p:cNvGrpSpPr/>
          <p:nvPr/>
        </p:nvGrpSpPr>
        <p:grpSpPr>
          <a:xfrm>
            <a:off x="4497480" y="3581640"/>
            <a:ext cx="3123720" cy="921600"/>
            <a:chOff x="4497480" y="3581640"/>
            <a:chExt cx="3123720" cy="921600"/>
          </a:xfrm>
        </p:grpSpPr>
        <p:sp>
          <p:nvSpPr>
            <p:cNvPr id="767" name="AutoShape 29"/>
            <p:cNvSpPr/>
            <p:nvPr/>
          </p:nvSpPr>
          <p:spPr>
            <a:xfrm flipV="1" rot="5381400">
              <a:off x="5868720" y="2954160"/>
              <a:ext cx="380880" cy="164412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42840 h 1644120"/>
                <a:gd name="textAreaBottom" fmla="*/ 1601280 h 164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768" name="Text Box 30"/>
            <p:cNvSpPr/>
            <p:nvPr/>
          </p:nvSpPr>
          <p:spPr>
            <a:xfrm>
              <a:off x="4497480" y="4043520"/>
              <a:ext cx="3123720" cy="459720"/>
            </a:xfrm>
            <a:prstGeom prst="rect">
              <a:avLst/>
            </a:prstGeom>
            <a:solidFill>
              <a:srgbClr val="524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sto MT"/>
                </a:rPr>
                <a:t>Independent clause</a:t>
              </a:r>
              <a:endParaRPr b="0" lang="en-US" sz="24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omplex Sentence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Text Box 9"/>
          <p:cNvSpPr/>
          <p:nvPr/>
        </p:nvSpPr>
        <p:spPr>
          <a:xfrm>
            <a:off x="1179360" y="3743280"/>
            <a:ext cx="7242480" cy="21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i="1" lang="en-US" sz="2000" spc="-1" strike="noStrike">
                <a:solidFill>
                  <a:srgbClr val="9c5238"/>
                </a:solidFill>
                <a:latin typeface="Verdana"/>
              </a:rPr>
              <a:t>dependent claus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ains a subject and verb. 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*It does not express a complete thought because it begins with a subordinating conjunction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i="1" lang="en-US" sz="2000" spc="-1" strike="noStrike">
                <a:solidFill>
                  <a:srgbClr val="9c5238"/>
                </a:solidFill>
                <a:latin typeface="Verdana"/>
              </a:rPr>
              <a:t>dependent claus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also called a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ubordina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lause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Depende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claus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like babies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anno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tand alon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71" name="Text Box 10"/>
          <p:cNvSpPr/>
          <p:nvPr/>
        </p:nvSpPr>
        <p:spPr>
          <a:xfrm>
            <a:off x="2209680" y="2789280"/>
            <a:ext cx="4496040" cy="581400"/>
          </a:xfrm>
          <a:prstGeom prst="rect">
            <a:avLst/>
          </a:prstGeom>
          <a:solidFill>
            <a:srgbClr val="8f99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c5238"/>
                </a:solidFill>
                <a:latin typeface="Calisto MT"/>
              </a:rPr>
              <a:t>Because you love me.</a:t>
            </a:r>
            <a:endParaRPr b="0" lang="en-US" sz="32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772" name="Group 43"/>
          <p:cNvGrpSpPr/>
          <p:nvPr/>
        </p:nvGrpSpPr>
        <p:grpSpPr>
          <a:xfrm>
            <a:off x="4800600" y="1774800"/>
            <a:ext cx="2286000" cy="900000"/>
            <a:chOff x="4800600" y="1774800"/>
            <a:chExt cx="2286000" cy="900000"/>
          </a:xfrm>
        </p:grpSpPr>
        <p:sp>
          <p:nvSpPr>
            <p:cNvPr id="773" name="Text Box 11"/>
            <p:cNvSpPr/>
            <p:nvPr/>
          </p:nvSpPr>
          <p:spPr>
            <a:xfrm>
              <a:off x="4800600" y="1774800"/>
              <a:ext cx="2286000" cy="581400"/>
            </a:xfrm>
            <a:prstGeom prst="rect">
              <a:avLst/>
            </a:prstGeom>
            <a:solidFill>
              <a:srgbClr val="524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sto MT"/>
                </a:rPr>
                <a:t>Fragment!</a:t>
              </a:r>
              <a:endParaRPr b="0" lang="en-US" sz="3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774" name="Line 12"/>
            <p:cNvSpPr/>
            <p:nvPr/>
          </p:nvSpPr>
          <p:spPr>
            <a:xfrm flipH="1">
              <a:off x="5181480" y="2446200"/>
              <a:ext cx="5335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Dependent Clause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sto MT"/>
              </a:rPr>
              <a:t>Punctuation for Complex Sentences</a:t>
            </a:r>
            <a:endParaRPr b="0" lang="en-US" sz="32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574200" y="2338560"/>
            <a:ext cx="7713720" cy="37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ommas are used to join a dependent clause to an independent clause </a:t>
            </a:r>
            <a:r>
              <a:rPr b="0" i="1" lang="en-US" sz="2400" spc="-1" strike="noStrike">
                <a:solidFill>
                  <a:srgbClr val="404040"/>
                </a:solidFill>
                <a:latin typeface="Calisto MT"/>
              </a:rPr>
              <a:t>if</a:t>
            </a: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 the dependent clause comes </a:t>
            </a:r>
            <a:r>
              <a:rPr b="0" i="1" lang="en-US" sz="2400" spc="-1" strike="noStrike">
                <a:solidFill>
                  <a:srgbClr val="404040"/>
                </a:solidFill>
                <a:latin typeface="Calisto MT"/>
              </a:rPr>
              <a:t>first</a:t>
            </a: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 in the sentence. The comma must follow the dependent clause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79600" indent="-2286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As I walked down the hallway, I could hear the echo of my footsteps. 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78" name="Oval 4"/>
          <p:cNvSpPr/>
          <p:nvPr/>
        </p:nvSpPr>
        <p:spPr>
          <a:xfrm flipH="1">
            <a:off x="4661640" y="3886200"/>
            <a:ext cx="574920" cy="617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sto MT"/>
              </a:rPr>
              <a:t>Punctuation for Complex Sentences</a:t>
            </a:r>
            <a:endParaRPr b="0" lang="en-US" sz="32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566280" y="2338560"/>
            <a:ext cx="8001000" cy="38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alisto MT"/>
              </a:rPr>
              <a:t>No </a:t>
            </a: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omma is used when the dependent clause comes </a:t>
            </a:r>
            <a:r>
              <a:rPr b="0" i="1" lang="en-US" sz="2400" spc="-1" strike="noStrike">
                <a:solidFill>
                  <a:srgbClr val="404040"/>
                </a:solidFill>
                <a:latin typeface="Calisto MT"/>
              </a:rPr>
              <a:t>after</a:t>
            </a: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 the independent clause. Then, the clauses are joined without any punctuation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343080" indent="-343080">
              <a:spcBef>
                <a:spcPts val="2001"/>
              </a:spcBef>
              <a:buClr>
                <a:srgbClr val="524a82"/>
              </a:buClr>
              <a:buFont typeface="Calisto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I could hear the echo of my footsteps as I walked down the hallway. 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524a82"/>
              </a:buClr>
              <a:buFont typeface="Calisto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sto MT"/>
              </a:rPr>
              <a:t>Punctuation for Complex Sentences</a:t>
            </a:r>
            <a:endParaRPr b="0" lang="en-US" sz="32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82" name=""/>
          <p:cNvSpPr txBox="1"/>
          <p:nvPr/>
        </p:nvSpPr>
        <p:spPr>
          <a:xfrm>
            <a:off x="566280" y="22125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nce dependent clauses are only part of a sentence, you can never use a semicolon to connect them to another sentence.  Semicolons are only used </a:t>
            </a:r>
            <a:r>
              <a:rPr b="0" lang="en-US" sz="2400" spc="-1" strike="noStrike" u="sng">
                <a:solidFill>
                  <a:srgbClr val="404040"/>
                </a:solidFill>
                <a:uFillTx/>
                <a:latin typeface="Calisto MT"/>
              </a:rPr>
              <a:t>between</a:t>
            </a: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 complete sentences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1280" indent="-341280">
              <a:lnSpc>
                <a:spcPct val="90000"/>
              </a:lnSpc>
              <a:spcBef>
                <a:spcPts val="2001"/>
              </a:spcBef>
              <a:buClr>
                <a:srgbClr val="524a82"/>
              </a:buClr>
              <a:buFont typeface="Calisto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79600" indent="-228600">
              <a:lnSpc>
                <a:spcPct val="90000"/>
              </a:lnSpc>
              <a:spcBef>
                <a:spcPts val="601"/>
              </a:spcBef>
              <a:buClr>
                <a:srgbClr val="524a82"/>
              </a:buClr>
              <a:buFont typeface="Calisto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I have loved you for years ; although I never admitted it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79600" indent="-228600">
              <a:lnSpc>
                <a:spcPct val="90000"/>
              </a:lnSpc>
              <a:spcBef>
                <a:spcPts val="601"/>
              </a:spcBef>
              <a:buClr>
                <a:srgbClr val="524a82"/>
              </a:buClr>
              <a:buFont typeface="Calisto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I have loved you for years although I never admitted it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83" name="Oval 4"/>
          <p:cNvSpPr/>
          <p:nvPr/>
        </p:nvSpPr>
        <p:spPr>
          <a:xfrm>
            <a:off x="4371840" y="3774960"/>
            <a:ext cx="594000" cy="649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784" name="Group 11"/>
          <p:cNvGrpSpPr/>
          <p:nvPr/>
        </p:nvGrpSpPr>
        <p:grpSpPr>
          <a:xfrm>
            <a:off x="5167080" y="4376880"/>
            <a:ext cx="1083960" cy="618840"/>
            <a:chOff x="5167080" y="4376880"/>
            <a:chExt cx="1083960" cy="618840"/>
          </a:xfrm>
        </p:grpSpPr>
        <p:sp>
          <p:nvSpPr>
            <p:cNvPr id="785" name="Text Box 7"/>
            <p:cNvSpPr/>
            <p:nvPr/>
          </p:nvSpPr>
          <p:spPr>
            <a:xfrm>
              <a:off x="5662440" y="4627440"/>
              <a:ext cx="588600" cy="368280"/>
            </a:xfrm>
            <a:prstGeom prst="rect">
              <a:avLst/>
            </a:prstGeom>
            <a:solidFill>
              <a:srgbClr val="8f9954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sto MT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786" name="Line 8"/>
            <p:cNvSpPr/>
            <p:nvPr/>
          </p:nvSpPr>
          <p:spPr>
            <a:xfrm flipH="1" flipV="1">
              <a:off x="5167080" y="4376880"/>
              <a:ext cx="463320" cy="29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grpSp>
        <p:nvGrpSpPr>
          <p:cNvPr id="787" name="Group 10"/>
          <p:cNvGrpSpPr/>
          <p:nvPr/>
        </p:nvGrpSpPr>
        <p:grpSpPr>
          <a:xfrm>
            <a:off x="4527720" y="4635360"/>
            <a:ext cx="997920" cy="368280"/>
            <a:chOff x="4527720" y="4635360"/>
            <a:chExt cx="997920" cy="368280"/>
          </a:xfrm>
        </p:grpSpPr>
        <p:sp>
          <p:nvSpPr>
            <p:cNvPr id="788" name="Text Box 6"/>
            <p:cNvSpPr/>
            <p:nvPr/>
          </p:nvSpPr>
          <p:spPr>
            <a:xfrm>
              <a:off x="4937040" y="4635360"/>
              <a:ext cx="588600" cy="368280"/>
            </a:xfrm>
            <a:prstGeom prst="rect">
              <a:avLst/>
            </a:prstGeom>
            <a:solidFill>
              <a:srgbClr val="524a8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sto MT"/>
                </a:rPr>
                <a:t>No!</a:t>
              </a:r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789" name="Line 9"/>
            <p:cNvSpPr/>
            <p:nvPr/>
          </p:nvSpPr>
          <p:spPr>
            <a:xfrm flipH="1" flipV="1">
              <a:off x="4527720" y="4635360"/>
              <a:ext cx="490320" cy="231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45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88880" y="507600"/>
            <a:ext cx="827712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ommon Subordinating (Dependent) Conjunctions</a:t>
            </a:r>
            <a:br>
              <a:rPr sz="2400"/>
            </a:b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graphicFrame>
        <p:nvGraphicFramePr>
          <p:cNvPr id="791" name=""/>
          <p:cNvGraphicFramePr/>
          <p:nvPr/>
        </p:nvGraphicFramePr>
        <p:xfrm>
          <a:off x="380880" y="1981080"/>
          <a:ext cx="8534520" cy="4199040"/>
        </p:xfrm>
        <a:graphic>
          <a:graphicData uri="http://schemas.openxmlformats.org/drawingml/2006/table">
            <a:tbl>
              <a:tblPr/>
              <a:tblGrid>
                <a:gridCol w="1600200"/>
                <a:gridCol w="1812960"/>
                <a:gridCol w="1997280"/>
                <a:gridCol w="1417680"/>
                <a:gridCol w="1706400"/>
              </a:tblGrid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af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even i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now th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th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whe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althoug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even thoug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o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thoug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where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i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rather th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un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wherev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as i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whenev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si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unt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whet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becau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in ord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sto MT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th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so th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wh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whi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bef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th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in c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whi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sto MT"/>
              </a:rPr>
              <a:t>The Compound-Complex Sentence</a:t>
            </a:r>
            <a:endParaRPr b="0" lang="en-US" sz="32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574560" y="2593800"/>
            <a:ext cx="7470720" cy="35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524a82"/>
              </a:buClr>
              <a:buFont typeface="Calisto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A compound-complex sentence is the last and most complicated type of sentence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  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524a82"/>
              </a:buClr>
              <a:buFont typeface="Calisto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It contains at least one dependent clause and at least two independent clauses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Text Box 22"/>
          <p:cNvSpPr/>
          <p:nvPr/>
        </p:nvSpPr>
        <p:spPr>
          <a:xfrm>
            <a:off x="865080" y="5716440"/>
            <a:ext cx="77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A dependent clause added to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sto MT"/>
              </a:rPr>
              <a:t>two</a:t>
            </a: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 or more independent clause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95" name="Text Box 23"/>
          <p:cNvSpPr/>
          <p:nvPr/>
        </p:nvSpPr>
        <p:spPr>
          <a:xfrm>
            <a:off x="1752480" y="2971800"/>
            <a:ext cx="708660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Because we are a family</a:t>
            </a:r>
            <a:r>
              <a:rPr b="1" lang="en-US" sz="2800" spc="-1" strike="noStrike">
                <a:solidFill>
                  <a:srgbClr val="000000"/>
                </a:solidFill>
                <a:latin typeface="Calisto MT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I love you</a:t>
            </a:r>
            <a:r>
              <a:rPr b="1" lang="en-US" sz="2800" spc="-1" strike="noStrike">
                <a:solidFill>
                  <a:srgbClr val="000000"/>
                </a:solidFill>
                <a:latin typeface="Calisto MT"/>
              </a:rPr>
              <a:t>, and</a:t>
            </a: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 you love me</a:t>
            </a:r>
            <a:r>
              <a:rPr b="0" lang="en-US" sz="3200" spc="-1" strike="noStrike">
                <a:solidFill>
                  <a:srgbClr val="000000"/>
                </a:solidFill>
                <a:latin typeface="Calisto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796" name="Group 33"/>
          <p:cNvGrpSpPr/>
          <p:nvPr/>
        </p:nvGrpSpPr>
        <p:grpSpPr>
          <a:xfrm>
            <a:off x="3431880" y="4268520"/>
            <a:ext cx="3809880" cy="1067040"/>
            <a:chOff x="3431880" y="4268520"/>
            <a:chExt cx="3809880" cy="1067040"/>
          </a:xfrm>
        </p:grpSpPr>
        <p:sp>
          <p:nvSpPr>
            <p:cNvPr id="797" name="Text Box 27"/>
            <p:cNvSpPr/>
            <p:nvPr/>
          </p:nvSpPr>
          <p:spPr>
            <a:xfrm>
              <a:off x="3965400" y="4827600"/>
              <a:ext cx="3276360" cy="459720"/>
            </a:xfrm>
            <a:prstGeom prst="rect">
              <a:avLst/>
            </a:prstGeom>
            <a:solidFill>
              <a:srgbClr val="524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sto MT"/>
                </a:rPr>
                <a:t>Independent clauses</a:t>
              </a:r>
              <a:endParaRPr b="0" lang="en-US" sz="24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798" name="Line 28"/>
            <p:cNvSpPr/>
            <p:nvPr/>
          </p:nvSpPr>
          <p:spPr>
            <a:xfrm flipH="1" flipV="1">
              <a:off x="3431880" y="4268520"/>
              <a:ext cx="1447560" cy="990360"/>
            </a:xfrm>
            <a:prstGeom prst="line">
              <a:avLst/>
            </a:prstGeom>
            <a:ln w="9360">
              <a:solidFill>
                <a:srgbClr val="524a8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799" name="Line 29"/>
            <p:cNvSpPr/>
            <p:nvPr/>
          </p:nvSpPr>
          <p:spPr>
            <a:xfrm flipV="1">
              <a:off x="5413320" y="4344840"/>
              <a:ext cx="1294920" cy="990720"/>
            </a:xfrm>
            <a:prstGeom prst="line">
              <a:avLst/>
            </a:prstGeom>
            <a:ln w="9360">
              <a:solidFill>
                <a:srgbClr val="524a8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grpSp>
        <p:nvGrpSpPr>
          <p:cNvPr id="800" name="Group 32"/>
          <p:cNvGrpSpPr/>
          <p:nvPr/>
        </p:nvGrpSpPr>
        <p:grpSpPr>
          <a:xfrm>
            <a:off x="2089440" y="1981080"/>
            <a:ext cx="5582160" cy="1005840"/>
            <a:chOff x="2089440" y="1981080"/>
            <a:chExt cx="5582160" cy="1005840"/>
          </a:xfrm>
        </p:grpSpPr>
        <p:sp>
          <p:nvSpPr>
            <p:cNvPr id="801" name="Text Box 25"/>
            <p:cNvSpPr/>
            <p:nvPr/>
          </p:nvSpPr>
          <p:spPr>
            <a:xfrm>
              <a:off x="2376720" y="1981080"/>
              <a:ext cx="4864320" cy="459720"/>
            </a:xfrm>
            <a:prstGeom prst="rect">
              <a:avLst/>
            </a:prstGeom>
            <a:solidFill>
              <a:srgbClr val="8f99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sto MT"/>
                </a:rPr>
                <a:t>Dependent clause</a:t>
              </a:r>
              <a:endParaRPr b="0" lang="en-US" sz="24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802" name="AutoShape 31"/>
            <p:cNvSpPr/>
            <p:nvPr/>
          </p:nvSpPr>
          <p:spPr>
            <a:xfrm rot="16218600">
              <a:off x="4632840" y="-65520"/>
              <a:ext cx="495360" cy="5579640"/>
            </a:xfrm>
            <a:custGeom>
              <a:avLst/>
              <a:gdLst>
                <a:gd name="textAreaLeft" fmla="*/ 0 w 495360"/>
                <a:gd name="textAreaRight" fmla="*/ 178920 w 495360"/>
                <a:gd name="textAreaTop" fmla="*/ 145440 h 5579640"/>
                <a:gd name="textAreaBottom" fmla="*/ 5434200 h 55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8f99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799308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Calisto MT"/>
              </a:rPr>
              <a:t>Compound-Complex Sentence</a:t>
            </a:r>
            <a:endParaRPr b="0" lang="en-US" sz="36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2"/>
          <p:cNvSpPr/>
          <p:nvPr/>
        </p:nvSpPr>
        <p:spPr>
          <a:xfrm>
            <a:off x="304920" y="220968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graphicFrame>
        <p:nvGraphicFramePr>
          <p:cNvPr id="805" name=""/>
          <p:cNvGraphicFramePr/>
          <p:nvPr/>
        </p:nvGraphicFramePr>
        <p:xfrm>
          <a:off x="1523880" y="2209680"/>
          <a:ext cx="6248520" cy="3143520"/>
        </p:xfrm>
        <a:graphic>
          <a:graphicData uri="http://schemas.openxmlformats.org/drawingml/2006/table">
            <a:tbl>
              <a:tblPr/>
              <a:tblGrid>
                <a:gridCol w="2830680"/>
                <a:gridCol w="3417840"/>
              </a:tblGrid>
              <a:tr h="11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sto M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524a82"/>
                          </a:solidFill>
                          <a:latin typeface="Verdana"/>
                        </a:rPr>
                        <a:t>Simpl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sto M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524a82"/>
                          </a:solidFill>
                          <a:latin typeface="Verdana"/>
                        </a:rPr>
                        <a:t>Compoun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sto M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524a82"/>
                          </a:solidFill>
                          <a:latin typeface="Verdana"/>
                        </a:rPr>
                        <a:t>Comple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sto M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24a82"/>
                          </a:solidFill>
                          <a:latin typeface="Verdana"/>
                        </a:rPr>
                        <a:t>Compound-compl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sto M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6" name="Text Box 94"/>
          <p:cNvSpPr/>
          <p:nvPr/>
        </p:nvSpPr>
        <p:spPr>
          <a:xfrm>
            <a:off x="623880" y="255600"/>
            <a:ext cx="786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Since every sentence in English fits into one of these four categories,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sto MT"/>
              </a:rPr>
              <a:t>Independent and Dependent Clauses</a:t>
            </a:r>
            <a:endParaRPr b="0" lang="en-US" sz="32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566280" y="2021040"/>
            <a:ext cx="800100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-320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An </a:t>
            </a:r>
            <a:r>
              <a:rPr b="0" i="1" lang="en-US" sz="2400" spc="-1" strike="noStrike">
                <a:solidFill>
                  <a:srgbClr val="404040"/>
                </a:solidFill>
                <a:latin typeface="Calisto MT"/>
              </a:rPr>
              <a:t>independent clause</a:t>
            </a: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 contains a subject, verb, and makes sense when it stands by itself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20760" indent="-320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20760" indent="-320760">
              <a:spcBef>
                <a:spcPts val="2001"/>
              </a:spcBef>
              <a:buClr>
                <a:srgbClr val="524a82"/>
              </a:buClr>
              <a:buFont typeface="Calisto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e child’s endless crying is very disturbing to her parents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20760" indent="-320760">
              <a:spcBef>
                <a:spcPts val="2001"/>
              </a:spcBef>
              <a:buClr>
                <a:srgbClr val="524a82"/>
              </a:buClr>
              <a:buFont typeface="Calisto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olds, flu, and other respiratory infections happen frequently in the winter and cause absences from work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20760" indent="-320760">
              <a:spcBef>
                <a:spcPts val="2001"/>
              </a:spcBef>
              <a:buClr>
                <a:srgbClr val="524a82"/>
              </a:buClr>
              <a:buFont typeface="Calisto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James got a cup of coffee and turned on his computer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sto MT"/>
              </a:rPr>
              <a:t>Independent and Dependent Clauses</a:t>
            </a:r>
            <a:endParaRPr b="0" lang="en-US" sz="32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574200" y="2084400"/>
            <a:ext cx="8001000" cy="39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A </a:t>
            </a:r>
            <a:r>
              <a:rPr b="0" i="1" lang="en-US" sz="2400" spc="-1" strike="noStrike">
                <a:solidFill>
                  <a:srgbClr val="404040"/>
                </a:solidFill>
                <a:latin typeface="Calisto MT"/>
              </a:rPr>
              <a:t>dependent </a:t>
            </a: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ause contains a subject(s) and verb(s), but it does not make sense when it stands by itself because it begins with a </a:t>
            </a:r>
            <a:r>
              <a:rPr b="0" i="1" lang="en-US" sz="2400" spc="-1" strike="noStrike">
                <a:solidFill>
                  <a:srgbClr val="404040"/>
                </a:solidFill>
                <a:latin typeface="Calisto MT"/>
              </a:rPr>
              <a:t>subordinating conjunction</a:t>
            </a: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 that is supposed to join it to an independent clause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1280" indent="-341280">
              <a:lnSpc>
                <a:spcPct val="90000"/>
              </a:lnSpc>
              <a:spcBef>
                <a:spcPts val="2001"/>
              </a:spcBef>
              <a:buClr>
                <a:srgbClr val="524a82"/>
              </a:buClr>
              <a:buFont typeface="Calisto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Because she has had a terrible cold all week 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1280" indent="-341280">
              <a:lnSpc>
                <a:spcPct val="90000"/>
              </a:lnSpc>
              <a:spcBef>
                <a:spcPts val="2001"/>
              </a:spcBef>
              <a:buClr>
                <a:srgbClr val="524a82"/>
              </a:buClr>
              <a:buFont typeface="Calisto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When I got to the office and checked my email this morning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1280" indent="-341280">
              <a:lnSpc>
                <a:spcPct val="90000"/>
              </a:lnSpc>
              <a:spcBef>
                <a:spcPts val="2001"/>
              </a:spcBef>
              <a:buClr>
                <a:srgbClr val="524a82"/>
              </a:buClr>
              <a:buFont typeface="Calisto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After Maria and Hector waited for an hour in the doctor’s office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The Simple Sentence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1296720" y="2403360"/>
            <a:ext cx="6210360" cy="29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524a82"/>
              </a:buClr>
              <a:buFont typeface="Calisto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sto MT"/>
              </a:rPr>
              <a:t>A simple sentence is one </a:t>
            </a:r>
            <a:r>
              <a:rPr b="1" i="1" lang="en-US" sz="2800" spc="-1" strike="noStrike">
                <a:solidFill>
                  <a:srgbClr val="9c5238"/>
                </a:solidFill>
                <a:latin typeface="Calisto MT"/>
              </a:rPr>
              <a:t>independent clause.</a:t>
            </a:r>
            <a:endParaRPr b="0" lang="en-US" sz="28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524a82"/>
              </a:buClr>
              <a:buFont typeface="Calisto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sto MT"/>
              </a:rPr>
              <a:t>An </a:t>
            </a:r>
            <a:r>
              <a:rPr b="1" i="1" lang="en-US" sz="2800" spc="-1" strike="noStrike">
                <a:solidFill>
                  <a:srgbClr val="9c5238"/>
                </a:solidFill>
                <a:latin typeface="Calisto MT"/>
              </a:rPr>
              <a:t>independent clause </a:t>
            </a:r>
            <a:r>
              <a:rPr b="0" lang="en-US" sz="2800" spc="-1" strike="noStrike">
                <a:solidFill>
                  <a:srgbClr val="404040"/>
                </a:solidFill>
                <a:latin typeface="Calisto MT"/>
              </a:rPr>
              <a:t>ends with a period or semicolon</a:t>
            </a: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The Compound Sentence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963720" y="2084040"/>
            <a:ext cx="761184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A </a:t>
            </a:r>
            <a:r>
              <a:rPr b="0" i="1" lang="en-US" sz="2400" spc="-1" strike="noStrike">
                <a:solidFill>
                  <a:srgbClr val="9c5238"/>
                </a:solidFill>
                <a:latin typeface="Calisto MT"/>
              </a:rPr>
              <a:t>compound sentence </a:t>
            </a: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is made up of two or more simple sentences joined by one of the following: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524a82"/>
              </a:buClr>
              <a:buFont typeface="Calisto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A comma and a coordinating conjunction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524a82"/>
              </a:buClr>
              <a:buFont typeface="Calisto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A semicolon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524a82"/>
              </a:buClr>
              <a:buFont typeface="Calisto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A semicolon and a conjunctive adverb or transitional expression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79600" indent="-228600">
              <a:spcBef>
                <a:spcPts val="601"/>
              </a:spcBef>
              <a:buClr>
                <a:srgbClr val="524a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oordinating Conjunctions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566280" y="2126880"/>
            <a:ext cx="8301240" cy="38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Remember the coordinating conjunctions by the acronym:  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Calisto MT"/>
              </a:rPr>
              <a:t>	</a:t>
            </a:r>
            <a:r>
              <a:rPr b="1" lang="en-US" sz="2800" spc="-1" strike="noStrike">
                <a:solidFill>
                  <a:srgbClr val="404040"/>
                </a:solidFill>
                <a:latin typeface="Calisto MT"/>
              </a:rPr>
              <a:t>	</a:t>
            </a:r>
            <a:r>
              <a:rPr b="1" lang="en-US" sz="2800" spc="-1" strike="noStrike">
                <a:solidFill>
                  <a:srgbClr val="404040"/>
                </a:solidFill>
                <a:latin typeface="Calisto MT"/>
              </a:rPr>
              <a:t>	</a:t>
            </a:r>
            <a:r>
              <a:rPr b="1" lang="en-US" sz="2800" spc="-1" strike="noStrike">
                <a:solidFill>
                  <a:srgbClr val="404040"/>
                </a:solidFill>
                <a:latin typeface="Calisto MT"/>
              </a:rPr>
              <a:t>       </a:t>
            </a:r>
            <a:r>
              <a:rPr b="1" lang="en-US" sz="2000" spc="-1" strike="noStrike">
                <a:solidFill>
                  <a:srgbClr val="404040"/>
                </a:solidFill>
                <a:latin typeface="Calisto MT"/>
              </a:rPr>
              <a:t>FANBOYS</a:t>
            </a: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  <a:p>
            <a:pPr lvl="1" marL="579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	</a:t>
            </a:r>
            <a:r>
              <a:rPr b="1" lang="en-US" sz="2000" spc="-1" strike="noStrike">
                <a:solidFill>
                  <a:srgbClr val="404040"/>
                </a:solidFill>
                <a:latin typeface="Calisto MT"/>
              </a:rPr>
              <a:t>F</a:t>
            </a: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    </a:t>
            </a: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for</a:t>
            </a: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  <a:p>
            <a:pPr lvl="1" marL="579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	</a:t>
            </a:r>
            <a:r>
              <a:rPr b="1" lang="en-US" sz="2000" spc="-1" strike="noStrike">
                <a:solidFill>
                  <a:srgbClr val="404040"/>
                </a:solidFill>
                <a:latin typeface="Calisto MT"/>
              </a:rPr>
              <a:t>A</a:t>
            </a: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   </a:t>
            </a: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and</a:t>
            </a: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  <a:p>
            <a:pPr lvl="1" marL="579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	</a:t>
            </a:r>
            <a:r>
              <a:rPr b="1" lang="en-US" sz="2000" spc="-1" strike="noStrike">
                <a:solidFill>
                  <a:srgbClr val="404040"/>
                </a:solidFill>
                <a:latin typeface="Calisto MT"/>
              </a:rPr>
              <a:t>N</a:t>
            </a: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   </a:t>
            </a: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nor </a:t>
            </a: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  <a:p>
            <a:pPr lvl="1" marL="579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	</a:t>
            </a:r>
            <a:r>
              <a:rPr b="1" lang="en-US" sz="2000" spc="-1" strike="noStrike">
                <a:solidFill>
                  <a:srgbClr val="404040"/>
                </a:solidFill>
                <a:latin typeface="Calisto MT"/>
              </a:rPr>
              <a:t>B</a:t>
            </a: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    </a:t>
            </a: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but </a:t>
            </a: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  <a:p>
            <a:pPr lvl="1" marL="579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	</a:t>
            </a:r>
            <a:r>
              <a:rPr b="1" lang="en-US" sz="2000" spc="-1" strike="noStrike">
                <a:solidFill>
                  <a:srgbClr val="404040"/>
                </a:solidFill>
                <a:latin typeface="Calisto MT"/>
              </a:rPr>
              <a:t>O</a:t>
            </a: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   </a:t>
            </a: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or</a:t>
            </a: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  <a:p>
            <a:pPr lvl="1" marL="579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	</a:t>
            </a:r>
            <a:r>
              <a:rPr b="1" lang="en-US" sz="2000" spc="-1" strike="noStrike">
                <a:solidFill>
                  <a:srgbClr val="404040"/>
                </a:solidFill>
                <a:latin typeface="Calisto MT"/>
              </a:rPr>
              <a:t>Y</a:t>
            </a: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    </a:t>
            </a: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yet </a:t>
            </a: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  <a:p>
            <a:pPr lvl="1" marL="579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	</a:t>
            </a:r>
            <a:r>
              <a:rPr b="1" lang="en-US" sz="2000" spc="-1" strike="noStrike">
                <a:solidFill>
                  <a:srgbClr val="404040"/>
                </a:solidFill>
                <a:latin typeface="Calisto MT"/>
              </a:rPr>
              <a:t>S</a:t>
            </a: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     </a:t>
            </a: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so</a:t>
            </a: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  <a:p>
            <a:pPr lvl="1" marL="579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sto MT"/>
              </a:rPr>
              <a:t>Conjunctive Adverbs </a:t>
            </a:r>
            <a:br>
              <a:rPr sz="3200"/>
            </a:br>
            <a:r>
              <a:rPr b="0" lang="en-US" sz="3200" spc="-1" strike="noStrike">
                <a:solidFill>
                  <a:srgbClr val="404040"/>
                </a:solidFill>
                <a:latin typeface="Calisto MT"/>
              </a:rPr>
              <a:t>          and Transitional Expressions</a:t>
            </a:r>
            <a:endParaRPr b="0" lang="en-US" sz="32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566280" y="2062080"/>
            <a:ext cx="8001000" cy="39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A </a:t>
            </a:r>
            <a:r>
              <a:rPr b="0" i="1" lang="en-US" sz="2400" spc="-1" strike="noStrike">
                <a:solidFill>
                  <a:srgbClr val="9c5238"/>
                </a:solidFill>
                <a:latin typeface="Calisto MT"/>
              </a:rPr>
              <a:t>conjunctive adverb </a:t>
            </a: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is a word that connects two independent clauses and shows the relationship between the ideas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79600" indent="-228600">
              <a:lnSpc>
                <a:spcPct val="90000"/>
              </a:lnSpc>
              <a:spcBef>
                <a:spcPts val="601"/>
              </a:spcBef>
              <a:buClr>
                <a:srgbClr val="524a82"/>
              </a:buClr>
              <a:buFont typeface="Calisto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I wanted to cash my check; </a:t>
            </a:r>
            <a:r>
              <a:rPr b="0" lang="en-US" sz="2400" spc="-1" strike="noStrike" u="sng">
                <a:solidFill>
                  <a:srgbClr val="404040"/>
                </a:solidFill>
                <a:uFillTx/>
                <a:latin typeface="Calisto MT"/>
              </a:rPr>
              <a:t>unfortunately</a:t>
            </a: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, the bank was closed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A </a:t>
            </a:r>
            <a:r>
              <a:rPr b="0" i="1" lang="en-US" sz="2400" spc="-1" strike="noStrike">
                <a:solidFill>
                  <a:srgbClr val="9c5238"/>
                </a:solidFill>
                <a:latin typeface="Calisto MT"/>
              </a:rPr>
              <a:t>transitional expression </a:t>
            </a: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is a phrase that shows that relationship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79600" indent="-228600">
              <a:spcBef>
                <a:spcPts val="601"/>
              </a:spcBef>
              <a:buClr>
                <a:srgbClr val="524a82"/>
              </a:buClr>
              <a:buFont typeface="Calisto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I could use a job; </a:t>
            </a:r>
            <a:r>
              <a:rPr b="0" lang="en-US" sz="2400" spc="-1" strike="noStrike" u="sng">
                <a:solidFill>
                  <a:srgbClr val="404040"/>
                </a:solidFill>
                <a:uFillTx/>
                <a:latin typeface="Calisto MT"/>
              </a:rPr>
              <a:t>on the other hand</a:t>
            </a: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, I like having free time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524a82"/>
              </a:buClr>
              <a:buFont typeface="Calisto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sto MT"/>
              </a:rPr>
              <a:t>Examples of Compound Sentences</a:t>
            </a:r>
            <a:endParaRPr b="0" lang="en-US" sz="32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963720" y="2168640"/>
            <a:ext cx="7611840" cy="39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524a82"/>
              </a:buClr>
              <a:buFont typeface="Calisto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4040"/>
                </a:solidFill>
                <a:uFillTx/>
                <a:latin typeface="Calisto MT"/>
              </a:rPr>
              <a:t>A comma and a coordinating conjunction</a:t>
            </a: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: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79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I like to study grammar</a:t>
            </a:r>
            <a:r>
              <a:rPr b="1" lang="en-US" sz="2400" spc="-1" strike="noStrike">
                <a:solidFill>
                  <a:srgbClr val="404040"/>
                </a:solidFill>
                <a:latin typeface="Calisto MT"/>
              </a:rPr>
              <a:t>, and </a:t>
            </a: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I love this class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524a82"/>
              </a:buClr>
              <a:buFont typeface="Calisto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4040"/>
                </a:solidFill>
                <a:uFillTx/>
                <a:latin typeface="Calisto MT"/>
              </a:rPr>
              <a:t>A semicolon</a:t>
            </a: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: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79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I like to study grammar</a:t>
            </a:r>
            <a:r>
              <a:rPr b="1" lang="en-US" sz="2400" spc="-1" strike="noStrike">
                <a:solidFill>
                  <a:srgbClr val="404040"/>
                </a:solidFill>
                <a:latin typeface="Calisto MT"/>
              </a:rPr>
              <a:t>;</a:t>
            </a: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 I love this class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524a82"/>
              </a:buClr>
              <a:buFont typeface="Calisto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4040"/>
                </a:solidFill>
                <a:uFillTx/>
                <a:latin typeface="Calisto MT"/>
              </a:rPr>
              <a:t>A semicolon and a conjunctive adverb or transitional expression</a:t>
            </a: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: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79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I like to study grammar</a:t>
            </a:r>
            <a:r>
              <a:rPr b="1" lang="en-US" sz="2400" spc="-1" strike="noStrike">
                <a:solidFill>
                  <a:srgbClr val="404040"/>
                </a:solidFill>
                <a:latin typeface="Calisto MT"/>
              </a:rPr>
              <a:t>; therefore</a:t>
            </a: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, I love this class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79600" indent="-228600">
              <a:spcBef>
                <a:spcPts val="601"/>
              </a:spcBef>
              <a:buClr>
                <a:srgbClr val="524a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The Complex Sentence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566280" y="2041200"/>
            <a:ext cx="8001000" cy="3978360"/>
          </a:xfrm>
          <a:prstGeom prst="rect">
            <a:avLst/>
          </a:prstGeom>
          <a:noFill/>
          <a:ln w="12600">
            <a:solidFill>
              <a:srgbClr val="8f9954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524a82"/>
              </a:buClr>
              <a:buFont typeface="Calisto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A complex sentence is a </a:t>
            </a:r>
            <a:r>
              <a:rPr b="0" lang="en-US" sz="2400" spc="-1" strike="noStrike" u="sng">
                <a:solidFill>
                  <a:srgbClr val="404040"/>
                </a:solidFill>
                <a:uFillTx/>
                <a:latin typeface="Calisto MT"/>
              </a:rPr>
              <a:t>complete</a:t>
            </a: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 thought (</a:t>
            </a:r>
            <a:r>
              <a:rPr b="0" i="1" lang="en-US" sz="2400" spc="-1" strike="noStrike">
                <a:solidFill>
                  <a:srgbClr val="404040"/>
                </a:solidFill>
                <a:latin typeface="Calisto MT"/>
              </a:rPr>
              <a:t>independent</a:t>
            </a: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 </a:t>
            </a:r>
            <a:r>
              <a:rPr b="0" i="1" lang="en-US" sz="2400" spc="-1" strike="noStrike">
                <a:solidFill>
                  <a:srgbClr val="404040"/>
                </a:solidFill>
                <a:latin typeface="Calisto MT"/>
              </a:rPr>
              <a:t>clause</a:t>
            </a: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) to which an </a:t>
            </a:r>
            <a:r>
              <a:rPr b="0" lang="en-US" sz="2400" spc="-1" strike="noStrike" u="sng">
                <a:solidFill>
                  <a:srgbClr val="404040"/>
                </a:solidFill>
                <a:uFillTx/>
                <a:latin typeface="Calisto MT"/>
              </a:rPr>
              <a:t>incomplete</a:t>
            </a: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 thought (</a:t>
            </a:r>
            <a:r>
              <a:rPr b="0" i="1" lang="en-US" sz="2400" spc="-1" strike="noStrike">
                <a:solidFill>
                  <a:srgbClr val="404040"/>
                </a:solidFill>
                <a:latin typeface="Calisto MT"/>
              </a:rPr>
              <a:t>dependent</a:t>
            </a: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 </a:t>
            </a:r>
            <a:r>
              <a:rPr b="0" i="1" lang="en-US" sz="2400" spc="-1" strike="noStrike">
                <a:solidFill>
                  <a:srgbClr val="404040"/>
                </a:solidFill>
                <a:latin typeface="Calisto MT"/>
              </a:rPr>
              <a:t>clause</a:t>
            </a: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) has been added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524a82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A coordinating conjunction joins the </a:t>
            </a:r>
            <a:r>
              <a:rPr b="0" i="1" lang="en-US" sz="2400" spc="-1" strike="noStrike">
                <a:solidFill>
                  <a:srgbClr val="404040"/>
                </a:solidFill>
                <a:latin typeface="Calisto MT"/>
              </a:rPr>
              <a:t>dependent claus</a:t>
            </a: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e to the </a:t>
            </a:r>
            <a:r>
              <a:rPr b="0" i="1" lang="en-US" sz="2400" spc="-1" strike="noStrike">
                <a:solidFill>
                  <a:srgbClr val="404040"/>
                </a:solidFill>
                <a:latin typeface="Calisto MT"/>
              </a:rPr>
              <a:t>independent clause</a:t>
            </a: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524a82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sto MT"/>
            </a:endParaRPr>
          </a:p>
          <a:p>
            <a:pPr lvl="1" marL="579600" indent="-228600">
              <a:spcBef>
                <a:spcPts val="601"/>
              </a:spcBef>
              <a:buClr>
                <a:srgbClr val="524a82"/>
              </a:buClr>
              <a:buFont typeface="Calisto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Because I like to study grammar, I love this class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79600" indent="-228600">
              <a:spcBef>
                <a:spcPts val="601"/>
              </a:spcBef>
              <a:buClr>
                <a:srgbClr val="524a82"/>
              </a:buClr>
              <a:buFont typeface="Calisto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I love this class because I like to study grammar</a:t>
            </a:r>
            <a:r>
              <a:rPr b="1" lang="en-US" sz="2400" spc="-1" strike="noStrike">
                <a:solidFill>
                  <a:srgbClr val="404040"/>
                </a:solidFill>
                <a:latin typeface="Calisto MT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524a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16:13:48Z</dcterms:created>
  <dc:creator>KISD</dc:creator>
  <dc:description/>
  <dc:language>en-US</dc:language>
  <cp:lastModifiedBy>KISD</cp:lastModifiedBy>
  <dcterms:modified xsi:type="dcterms:W3CDTF">2011-03-29T16:27:53Z</dcterms:modified>
  <cp:revision>2</cp:revision>
  <dc:subject/>
  <dc:title>Writing Complex Sentences</dc:title>
</cp:coreProperties>
</file>